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D3B-4DE7-4DA5-8F63-77DC8B47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0A9-4E44-44BD-87AC-BF676EB8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3BB-2E93-47F8-9357-4FE8CC40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E4D-EE52-4D8C-BCA7-AC2E81B0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4F6C-49EB-49BE-8FFF-32187746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736C-C515-473F-B906-89591A7F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222D-61C7-4B1A-8C3A-EDC69654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D7B2-C11A-4D3B-812C-9B51F83C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CED9-56DD-4E09-B744-47041B6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06B2-967E-4BFC-A4B5-F1BE7FAF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2B0-EE38-4DEB-9023-EDA548E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88F-C73E-45C8-9A24-3628C4BD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F273-97D7-4D37-8107-E56A31C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4775-115D-4FCE-9C05-9180E33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1CEA-A688-4A43-96D7-85726EE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FDC-F2A6-49D2-85FF-F8B5D868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292D-B65B-46BD-9684-411A6F4E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174-6B5A-4BDA-8068-A8D94567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545-FCA7-461C-82C3-4BB6899E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FC7-C359-4D0E-BE87-A5AD2E6D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E44-154F-486C-8084-ED46E1D8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9D5-5FE0-4247-9B9B-F1ECEE1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E81-6B56-4C69-A3F5-957FB24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337-1071-48AC-9C01-75982CC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B1BC-1CAB-4F05-8D9F-D550B858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EB60-5FF2-4743-9025-1D29FCB2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sign Patterns for Self-Balancing Tree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ng “Zung” Ngu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hen W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2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reeN and Algorithm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4" name=""/>
          <p:cNvSpPr/>
          <p:nvPr/>
        </p:nvSpPr>
        <p:spPr>
          <a:xfrm>
            <a:off x="14335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ntree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" y="1981080"/>
            <a:ext cx="8686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oString()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-74520" y="784080"/>
            <a:ext cx="8454960" cy="5730120"/>
          </a:xfrm>
          <a:prstGeom prst="wedgeRoundRectCallout">
            <a:avLst>
              <a:gd name="adj1" fmla="val -43523"/>
              <a:gd name="adj2" fmla="val 698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ToStringAlgo implements ITreeNAlg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nstructors o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idx, TreeN host, Object key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switch(id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case 0: {  return "[ ]";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default: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ing sData= "", sTrees="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for(int i = 0;i&lt;idx;i++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sData += host.getDat(i)+" 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sTrees += host.getChild(i).execute(toStringHelp,"|  ")+"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sTrees += host.getChild(idx).execute(toStringHelp,"   ").toString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return sData +"\n"+sTree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ITreeNAlgo toStringHelp =  …see next slid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752480"/>
            <a:ext cx="2361960" cy="533520"/>
          </a:xfrm>
          <a:prstGeom prst="wedgeRoundRectCallout">
            <a:avLst>
              <a:gd name="adj1" fmla="val -92337"/>
              <a:gd name="adj2" fmla="val 9523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2514600"/>
            <a:ext cx="3200400" cy="533520"/>
          </a:xfrm>
          <a:prstGeom prst="wedgeRoundRectCallout">
            <a:avLst>
              <a:gd name="adj1" fmla="val -69148"/>
              <a:gd name="adj2" fmla="val 437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on-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43600" y="3162240"/>
            <a:ext cx="3200400" cy="533520"/>
          </a:xfrm>
          <a:prstGeom prst="wedgeRoundRectCallout">
            <a:avLst>
              <a:gd name="adj1" fmla="val -34226"/>
              <a:gd name="adj2" fmla="val 76787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Prefix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oString() Helper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13840" y="1219320"/>
            <a:ext cx="815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final static ITreeNAlgo toStringHelp = new ITreeNAlgo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public Object caseAt(int idx, TreeN host, Object prefi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switch(id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case 0: {  return "|_[ ]";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default: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ing sData= "", sTrees="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for(int i = 0;i&lt;idx;i++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sData += host.getDat(i)+" 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sTrees += pref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(String) host.getChild(i).execute(this, prefix+"|  ")+"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ees += pref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host.getChild(idx).execute(this, prefix+"   " ).toString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return "|_ "+sData +"\n"+sTree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1447920"/>
            <a:ext cx="2362320" cy="533160"/>
          </a:xfrm>
          <a:prstGeom prst="wedgeRoundRectCallout">
            <a:avLst>
              <a:gd name="adj1" fmla="val -92337"/>
              <a:gd name="adj2" fmla="val 9523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2209680"/>
            <a:ext cx="3200400" cy="533520"/>
          </a:xfrm>
          <a:prstGeom prst="wedgeRoundRectCallout">
            <a:avLst>
              <a:gd name="adj1" fmla="val -69148"/>
              <a:gd name="adj2" fmla="val 437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on-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95480"/>
            <a:ext cx="3200400" cy="533520"/>
          </a:xfrm>
          <a:prstGeom prst="wedgeRoundRectCallout">
            <a:avLst>
              <a:gd name="adj1" fmla="val -20782"/>
              <a:gd name="adj2" fmla="val 10654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Prefix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Vertical Data Transpor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80880" y="1828800"/>
            <a:ext cx="7162920" cy="3733920"/>
            <a:chOff x="380880" y="1828800"/>
            <a:chExt cx="7162920" cy="3733920"/>
          </a:xfrm>
        </p:grpSpPr>
        <p:grpSp>
          <p:nvGrpSpPr>
            <p:cNvPr id="448" name=""/>
            <p:cNvGrpSpPr/>
            <p:nvPr/>
          </p:nvGrpSpPr>
          <p:grpSpPr>
            <a:xfrm>
              <a:off x="380880" y="1828800"/>
              <a:ext cx="2028960" cy="2489040"/>
              <a:chOff x="380880" y="1828800"/>
              <a:chExt cx="2028960" cy="2489040"/>
            </a:xfrm>
          </p:grpSpPr>
          <p:sp>
            <p:nvSpPr>
              <p:cNvPr id="449" name=""/>
              <p:cNvSpPr/>
              <p:nvPr/>
            </p:nvSpPr>
            <p:spPr>
              <a:xfrm>
                <a:off x="8582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160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742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00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9324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0040" y="2268000"/>
                <a:ext cx="179028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9500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55120" y="3512520"/>
                <a:ext cx="238680" cy="366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74280" y="307296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738720" y="3072960"/>
                <a:ext cx="238680" cy="1244520"/>
                <a:chOff x="738720" y="3072960"/>
                <a:chExt cx="238680" cy="12445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387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578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387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80880" y="3072960"/>
                <a:ext cx="238680" cy="1244520"/>
                <a:chOff x="380880" y="3072960"/>
                <a:chExt cx="238680" cy="1244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8088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0004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0880" y="3878280"/>
                  <a:ext cx="238680" cy="4392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812960" y="3072960"/>
                <a:ext cx="238680" cy="1244520"/>
                <a:chOff x="1812960" y="3072960"/>
                <a:chExt cx="238680" cy="1244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81296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3212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812960" y="3878280"/>
                  <a:ext cx="238680" cy="4392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171160" y="3072960"/>
                <a:ext cx="238680" cy="1244520"/>
                <a:chOff x="2171160" y="3072960"/>
                <a:chExt cx="238680" cy="12445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17116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9032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171160" y="3878280"/>
                  <a:ext cx="238680" cy="4392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096920" y="3072960"/>
                <a:ext cx="238680" cy="1244520"/>
                <a:chOff x="1096920" y="3072960"/>
                <a:chExt cx="238680" cy="12445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0969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2160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096920" y="3878280"/>
                  <a:ext cx="238680" cy="4392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455120" y="3878640"/>
                <a:ext cx="238680" cy="439200"/>
                <a:chOff x="1455120" y="3878640"/>
                <a:chExt cx="238680" cy="439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455120" y="3878640"/>
                  <a:ext cx="59400" cy="4392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634040" y="3878640"/>
                  <a:ext cx="59760" cy="4392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14520" y="3878640"/>
                  <a:ext cx="119160" cy="4392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2768760" y="1828800"/>
              <a:ext cx="2028240" cy="3733920"/>
              <a:chOff x="2768760" y="1828800"/>
              <a:chExt cx="2028240" cy="373392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3723120" y="4318200"/>
                <a:ext cx="214560" cy="1244520"/>
                <a:chOff x="3723120" y="4318200"/>
                <a:chExt cx="214560" cy="1244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723120" y="4757400"/>
                  <a:ext cx="214560" cy="365760"/>
                </a:xfrm>
                <a:prstGeom prst="triangle">
                  <a:avLst>
                    <a:gd name="adj" fmla="val 58685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42280" y="431820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723120" y="5123520"/>
                  <a:ext cx="214560" cy="4392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85920" y="4318200"/>
                <a:ext cx="214560" cy="1244520"/>
                <a:chOff x="3985920" y="4318200"/>
                <a:chExt cx="214560" cy="12445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85920" y="4757400"/>
                  <a:ext cx="214560" cy="365760"/>
                </a:xfrm>
                <a:prstGeom prst="triangle">
                  <a:avLst>
                    <a:gd name="adj" fmla="val 4440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81320" y="431820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985920" y="5123520"/>
                  <a:ext cx="214560" cy="4392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324576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0396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6180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8792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32000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87920" y="2268000"/>
                <a:ext cx="178992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8288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42640" y="3512520"/>
                <a:ext cx="238320" cy="366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61800" y="307332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3126600" y="3073320"/>
                <a:ext cx="238320" cy="1244520"/>
                <a:chOff x="3126600" y="3073320"/>
                <a:chExt cx="238320" cy="124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126600" y="3512520"/>
                  <a:ext cx="23832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24576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6600" y="3878640"/>
                  <a:ext cx="238320" cy="4392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768760" y="3073320"/>
                <a:ext cx="238320" cy="1244520"/>
                <a:chOff x="2768760" y="3073320"/>
                <a:chExt cx="238320" cy="12445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76876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88792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68760" y="3878640"/>
                  <a:ext cx="238320" cy="4392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200480" y="3073320"/>
                <a:ext cx="238320" cy="1244520"/>
                <a:chOff x="4200480" y="3073320"/>
                <a:chExt cx="238320" cy="12445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20048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31964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200480" y="3878640"/>
                  <a:ext cx="238320" cy="43920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58680" y="3073320"/>
                <a:ext cx="238320" cy="1244520"/>
                <a:chOff x="4558680" y="3073320"/>
                <a:chExt cx="238320" cy="1244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5868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67784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58680" y="3878640"/>
                  <a:ext cx="238320" cy="4392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3484440" y="3073320"/>
                <a:ext cx="238320" cy="1244520"/>
                <a:chOff x="3484440" y="3073320"/>
                <a:chExt cx="238320" cy="12445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484440" y="3512520"/>
                  <a:ext cx="23832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0360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84440" y="3878640"/>
                  <a:ext cx="238320" cy="439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842640" y="3878640"/>
                <a:ext cx="238320" cy="43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5156280" y="1828800"/>
              <a:ext cx="2387520" cy="2488680"/>
              <a:chOff x="5156280" y="1828800"/>
              <a:chExt cx="2387520" cy="2488680"/>
            </a:xfrm>
          </p:grpSpPr>
          <p:sp>
            <p:nvSpPr>
              <p:cNvPr id="522" name=""/>
              <p:cNvSpPr/>
              <p:nvPr/>
            </p:nvSpPr>
            <p:spPr>
              <a:xfrm>
                <a:off x="56336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9918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082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754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0660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5872320" y="3072960"/>
                <a:ext cx="238680" cy="1244520"/>
                <a:chOff x="5872320" y="3072960"/>
                <a:chExt cx="238680" cy="12445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8723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914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723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5514120" y="3072960"/>
                <a:ext cx="238680" cy="1244520"/>
                <a:chOff x="5514120" y="3072960"/>
                <a:chExt cx="238680" cy="12445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55141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6332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5141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946920" y="3072960"/>
                <a:ext cx="238680" cy="1244520"/>
                <a:chOff x="6946920" y="3072960"/>
                <a:chExt cx="238680" cy="12445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9469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0660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9469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305120" y="3072960"/>
                <a:ext cx="238680" cy="1244520"/>
                <a:chOff x="7305120" y="3072960"/>
                <a:chExt cx="238680" cy="12445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3051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242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3051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5275440" y="2268000"/>
                <a:ext cx="214884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35004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350040" y="2633760"/>
                <a:ext cx="357840" cy="43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230520" y="3072960"/>
                <a:ext cx="238680" cy="1244520"/>
                <a:chOff x="6230520" y="3072960"/>
                <a:chExt cx="238680" cy="12445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23052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3496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2305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588720" y="3072960"/>
                <a:ext cx="238680" cy="1244520"/>
                <a:chOff x="6588720" y="3072960"/>
                <a:chExt cx="238680" cy="12445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58872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078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588720" y="3878280"/>
                  <a:ext cx="238680" cy="43920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156280" y="3072960"/>
                <a:ext cx="238680" cy="1244520"/>
                <a:chOff x="5156280" y="3072960"/>
                <a:chExt cx="238680" cy="12445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5628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27544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156280" y="3878280"/>
                  <a:ext cx="238680" cy="43920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>
              <a:off x="1514520" y="4537080"/>
              <a:ext cx="2328840" cy="366840"/>
            </a:xfrm>
            <a:custGeom>
              <a:avLst/>
              <a:gdLst>
                <a:gd name="textAreaLeft" fmla="*/ 457200 w 2328840"/>
                <a:gd name="textAreaRight" fmla="*/ 1613520 w 232884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-1805415"/>
                  <a:lnTo>
                    <a:pt x="20138" y="12120"/>
                  </a:lnTo>
                  <a:lnTo>
                    <a:pt x="18089" y="0"/>
                  </a:lnTo>
                  <a:lnTo>
                    <a:pt x="13115" y="12120"/>
                  </a:lnTo>
                  <a:lnTo>
                    <a:pt x="15507" y="12120"/>
                  </a:lnTo>
                  <a:arcTo wR="8485" hR="21600" stAng="3594585" swAng="1625833"/>
                  <a:lnTo>
                    <a:pt x="9604" y="21411"/>
                  </a:lnTo>
                  <a:arcTo wR="8485" hR="21600" stAng="5579582" swAng="5220418"/>
                  <a:close/>
                </a:path>
                <a:path fill="darkenLess"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179582"/>
                  <a:lnTo>
                    <a:pt x="9604" y="21411"/>
                  </a:lnTo>
                  <a:arcTo wR="8485" hR="21600" stAng="5579582" swAng="5220418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t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21080" y="4537080"/>
              <a:ext cx="2327400" cy="366840"/>
            </a:xfrm>
            <a:custGeom>
              <a:avLst/>
              <a:gdLst>
                <a:gd name="textAreaLeft" fmla="*/ 456840 w 2327400"/>
                <a:gd name="textAreaRight" fmla="*/ 1612800 w 232740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-1805415"/>
                  <a:lnTo>
                    <a:pt x="20138" y="12120"/>
                  </a:lnTo>
                  <a:lnTo>
                    <a:pt x="18089" y="0"/>
                  </a:lnTo>
                  <a:lnTo>
                    <a:pt x="13115" y="12120"/>
                  </a:lnTo>
                  <a:lnTo>
                    <a:pt x="15507" y="12120"/>
                  </a:lnTo>
                  <a:arcTo wR="8485" hR="21600" stAng="3594585" swAng="1625833"/>
                  <a:lnTo>
                    <a:pt x="9604" y="21411"/>
                  </a:lnTo>
                  <a:arcTo wR="8485" hR="21600" stAng="5579582" swAng="5220418"/>
                  <a:close/>
                </a:path>
                <a:path fill="darkenLess"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179582"/>
                  <a:lnTo>
                    <a:pt x="9604" y="21411"/>
                  </a:lnTo>
                  <a:arcTo wR="8485" hR="21600" stAng="5579582" swAng="5220418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370880" y="1836720"/>
              <a:ext cx="2319480" cy="563040"/>
            </a:xfrm>
            <a:custGeom>
              <a:avLst/>
              <a:gdLst>
                <a:gd name="textAreaLeft" fmla="*/ 442800 w 2319480"/>
                <a:gd name="textAreaRight" fmla="*/ 1601640 w 2319480"/>
                <a:gd name="textAreaTop" fmla="*/ 75240 h 563040"/>
                <a:gd name="textAreaBottom" fmla="*/ 487800 h 56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247" hR="21600" stAng="10800000" swAng="5400000"/>
                  <a:lnTo>
                    <a:pt x="10793" y="0"/>
                  </a:lnTo>
                  <a:arcTo wR="8247" hR="21600" stAng="-5400000" swAng="2054442"/>
                  <a:lnTo>
                    <a:pt x="20546" y="11033"/>
                  </a:lnTo>
                  <a:lnTo>
                    <a:pt x="17766" y="21600"/>
                  </a:lnTo>
                  <a:lnTo>
                    <a:pt x="12878" y="11033"/>
                  </a:lnTo>
                  <a:lnTo>
                    <a:pt x="15439" y="11033"/>
                  </a:lnTo>
                  <a:arcTo wR="8247" hR="21600" stAng="-3345558" swAng="-1849622"/>
                  <a:lnTo>
                    <a:pt x="9520" y="259"/>
                  </a:lnTo>
                  <a:arcTo wR="8247" hR="21600" stAng="-5604820" swAng="-5195180"/>
                  <a:close/>
                </a:path>
                <a:path fill="darkenLess" w="21600" h="21600">
                  <a:moveTo>
                    <a:pt x="0" y="21600"/>
                  </a:moveTo>
                  <a:arcTo wR="8247" hR="21600" stAng="10800000" swAng="5400000"/>
                  <a:lnTo>
                    <a:pt x="8247" y="0"/>
                  </a:lnTo>
                  <a:arcTo wR="8247" hR="21600" stAng="-5400000" swAng="204820"/>
                  <a:lnTo>
                    <a:pt x="9520" y="259"/>
                  </a:lnTo>
                  <a:arcTo wR="8247" hR="21600" stAng="-5604820" swAng="-519518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apse/Sp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885480" y="1828800"/>
              <a:ext cx="2328840" cy="366840"/>
            </a:xfrm>
            <a:custGeom>
              <a:avLst/>
              <a:gdLst>
                <a:gd name="textAreaLeft" fmla="*/ 451800 w 2328840"/>
                <a:gd name="textAreaRight" fmla="*/ 1643400 w 232884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90" hR="21600" stAng="10800000" swAng="5400000"/>
                  <a:lnTo>
                    <a:pt x="11050" y="0"/>
                  </a:lnTo>
                  <a:arcTo wR="8390" hR="21600" stAng="-5400000" swAng="2861453"/>
                  <a:lnTo>
                    <a:pt x="21120" y="14400"/>
                  </a:lnTo>
                  <a:lnTo>
                    <a:pt x="18110" y="21600"/>
                  </a:lnTo>
                  <a:lnTo>
                    <a:pt x="14140" y="14400"/>
                  </a:lnTo>
                  <a:lnTo>
                    <a:pt x="16300" y="14400"/>
                  </a:lnTo>
                  <a:arcTo wR="8390" hR="21600" stAng="-2538547" swAng="-2647343"/>
                  <a:lnTo>
                    <a:pt x="9720" y="273"/>
                  </a:lnTo>
                  <a:arcTo wR="8390" hR="21600" stAng="-5614110" swAng="-5185890"/>
                  <a:close/>
                </a:path>
                <a:path fill="darkenLess" w="21600" h="21600">
                  <a:moveTo>
                    <a:pt x="0" y="21600"/>
                  </a:moveTo>
                  <a:arcTo wR="8390" hR="21600" stAng="10800000" swAng="5400000"/>
                  <a:lnTo>
                    <a:pt x="8390" y="0"/>
                  </a:lnTo>
                  <a:arcTo wR="8390" hR="21600" stAng="-5400000" swAng="214110"/>
                  <a:lnTo>
                    <a:pt x="9720" y="273"/>
                  </a:lnTo>
                  <a:arcTo wR="8390" hR="21600" stAng="-5614110" swAng="-518589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t-dow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04920" y="5715000"/>
            <a:ext cx="71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 net height change except at root and leav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738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Command Design Patter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1701720"/>
            <a:ext cx="35053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Object apply(Object i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04920" y="2463840"/>
            <a:ext cx="6629400" cy="1523880"/>
            <a:chOff x="304920" y="2463840"/>
            <a:chExt cx="6629400" cy="1523880"/>
          </a:xfrm>
        </p:grpSpPr>
        <p:sp>
          <p:nvSpPr>
            <p:cNvPr id="566" name=""/>
            <p:cNvSpPr/>
            <p:nvPr/>
          </p:nvSpPr>
          <p:spPr>
            <a:xfrm>
              <a:off x="304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90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76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295640" y="2463840"/>
              <a:ext cx="1676520" cy="914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581640" y="246384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4190760" y="2463840"/>
              <a:ext cx="1676520" cy="914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46360" y="1472400"/>
            <a:ext cx="2998800" cy="674280"/>
            <a:chOff x="5346360" y="1472400"/>
            <a:chExt cx="2998800" cy="674280"/>
          </a:xfrm>
        </p:grpSpPr>
        <p:sp>
          <p:nvSpPr>
            <p:cNvPr id="573" name=""/>
            <p:cNvSpPr/>
            <p:nvPr/>
          </p:nvSpPr>
          <p:spPr>
            <a:xfrm rot="1800">
              <a:off x="6019920" y="1472760"/>
              <a:ext cx="23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Performs a task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555000">
              <a:off x="5393880" y="167004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454360" y="2154960"/>
            <a:ext cx="2714400" cy="833760"/>
            <a:chOff x="5454360" y="2154960"/>
            <a:chExt cx="2714400" cy="833760"/>
          </a:xfrm>
        </p:grpSpPr>
        <p:sp>
          <p:nvSpPr>
            <p:cNvPr id="576" name=""/>
            <p:cNvSpPr/>
            <p:nvPr/>
          </p:nvSpPr>
          <p:spPr>
            <a:xfrm rot="21584400">
              <a:off x="6325200" y="2158920"/>
              <a:ext cx="184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f0f"/>
                  </a:solidFill>
                  <a:latin typeface="Times New Roman"/>
                </a:rPr>
                <a:t>No specifi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f0f"/>
                  </a:solidFill>
                  <a:latin typeface="Times New Roman"/>
                </a:rPr>
                <a:t>semantic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1560800">
              <a:off x="5486400" y="2255400"/>
              <a:ext cx="798480" cy="381240"/>
            </a:xfrm>
            <a:prstGeom prst="rightArrow">
              <a:avLst>
                <a:gd name="adj1" fmla="val 50000"/>
                <a:gd name="adj2" fmla="val 52361"/>
              </a:avLst>
            </a:prstGeom>
            <a:solidFill>
              <a:srgbClr val="ff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064520" y="4064040"/>
            <a:ext cx="5208480" cy="1001880"/>
            <a:chOff x="1064520" y="4064040"/>
            <a:chExt cx="5208480" cy="1001880"/>
          </a:xfrm>
        </p:grpSpPr>
        <p:sp>
          <p:nvSpPr>
            <p:cNvPr id="579" name=""/>
            <p:cNvSpPr/>
            <p:nvPr/>
          </p:nvSpPr>
          <p:spPr>
            <a:xfrm>
              <a:off x="1064520" y="4606200"/>
              <a:ext cx="520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0f0"/>
                  </a:solidFill>
                  <a:latin typeface="Times New Roman"/>
                </a:rPr>
                <a:t>Well-defined, but unrelated semantic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0496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8640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020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04920" y="939960"/>
            <a:ext cx="144756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752480" y="838080"/>
            <a:ext cx="1864080" cy="863640"/>
            <a:chOff x="1752480" y="838080"/>
            <a:chExt cx="1864080" cy="863640"/>
          </a:xfrm>
        </p:grpSpPr>
        <p:cxnSp>
          <p:nvCxnSpPr>
            <p:cNvPr id="585" name=""/>
            <p:cNvCxnSpPr>
              <a:stCxn id="583" idx="3"/>
              <a:endCxn id="564" idx="0"/>
            </p:cNvCxnSpPr>
            <p:nvPr/>
          </p:nvCxnSpPr>
          <p:spPr>
            <a:xfrm>
              <a:off x="1752480" y="1168200"/>
              <a:ext cx="1829520" cy="533880"/>
            </a:xfrm>
            <a:prstGeom prst="bentConnector2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sp>
          <p:nvSpPr>
            <p:cNvPr id="586" name=""/>
            <p:cNvSpPr/>
            <p:nvPr/>
          </p:nvSpPr>
          <p:spPr>
            <a:xfrm>
              <a:off x="2614320" y="8380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vok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 txBox="1"/>
          <p:nvPr/>
        </p:nvSpPr>
        <p:spPr>
          <a:xfrm>
            <a:off x="533520" y="510552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ands = Lambda Func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62120" y="6019920"/>
            <a:ext cx="670536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onymous inner classes provide closures for lambdas!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Heurist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 must take place at the 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must grow only at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9480" y="3581280"/>
            <a:ext cx="71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ust transpor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leaves to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out affecting the heigh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 Black"/>
              </a:rPr>
              <a:t>Problem</a:t>
            </a: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: If a child node is too wide, it needs to split up and splice into its parent, but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ild node does not know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plice into its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ild does not even have a reference to its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286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Arial Black"/>
              </a:rPr>
              <a:t>Solution</a:t>
            </a:r>
            <a:r>
              <a:rPr b="0" i="1" lang="en-US" sz="3200" spc="-1" strike="noStrike">
                <a:solidFill>
                  <a:srgbClr val="ff3300"/>
                </a:solidFill>
                <a:latin typeface="Arial Black"/>
              </a:rPr>
              <a:t>: Pass a command (lambda) forward from the parent to the child during the recursive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4160" y="1374840"/>
            <a:ext cx="776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SplitUpAndApply implements ITreeNAlg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_ord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plitUpAndApply(int order) { _order = orde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bject caseAt(int i, TreeN host, Object para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(i &lt;= _order) return ho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.splitUpAt(i / 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((ILambda)param).apply(host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-360" y="22608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Split-up and Splice (Apply)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7" name=""/>
          <p:cNvSpPr/>
          <p:nvPr/>
        </p:nvSpPr>
        <p:spPr>
          <a:xfrm>
            <a:off x="2057400" y="1225440"/>
            <a:ext cx="3048120" cy="496440"/>
          </a:xfrm>
          <a:prstGeom prst="wedgeRoundRectCallout">
            <a:avLst>
              <a:gd name="adj1" fmla="val -53587"/>
              <a:gd name="adj2" fmla="val 10478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ax width of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2438280"/>
            <a:ext cx="3657600" cy="496440"/>
          </a:xfrm>
          <a:prstGeom prst="wedgeRoundRectCallout">
            <a:avLst>
              <a:gd name="adj1" fmla="val -66657"/>
              <a:gd name="adj2" fmla="val 148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 too wide? 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n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2982960"/>
            <a:ext cx="3657600" cy="891000"/>
          </a:xfrm>
          <a:prstGeom prst="wedgeRoundRectCallout">
            <a:avLst>
              <a:gd name="adj1" fmla="val -76597"/>
              <a:gd name="adj2" fmla="val 95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ide? 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t up then apply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8480" y="5334120"/>
            <a:ext cx="3657600" cy="891000"/>
          </a:xfrm>
          <a:prstGeom prst="wedgeRoundRectCallout">
            <a:avLst>
              <a:gd name="adj1" fmla="val -38939"/>
              <a:gd name="adj2" fmla="val -116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lambda splices this child into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5638680"/>
            <a:ext cx="78678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mbda/commands enable decoupled communication!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insertion point at the leaf and splice new data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plit-and-Apply visitor to transport excess data up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passed as parameter to recursive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oot: split-and-s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node: split-and-no-op will cause entire tree to grow in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the splice/no-op as a command passed to the visi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638360" y="533412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mbdas simplify cod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294920" y="4724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lice into pa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1523880"/>
            <a:ext cx="30492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971800" y="1523880"/>
            <a:ext cx="380880" cy="83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7800" y="2793960"/>
            <a:ext cx="11160" cy="9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08320" y="2793960"/>
            <a:ext cx="768600" cy="93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2774880"/>
            <a:ext cx="361800" cy="103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01880" y="27939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4132440" y="3200400"/>
            <a:ext cx="287280" cy="5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14920" y="3200400"/>
            <a:ext cx="2379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24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Dynam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15" name=""/>
          <p:cNvSpPr/>
          <p:nvPr/>
        </p:nvSpPr>
        <p:spPr>
          <a:xfrm>
            <a:off x="3216240" y="23529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42000" y="37245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30360" y="3727800"/>
            <a:ext cx="333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49880" y="37245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864800" y="2819520"/>
            <a:ext cx="878040" cy="90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29000" y="1222560"/>
            <a:ext cx="48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3676320" y="2806560"/>
            <a:ext cx="1143000" cy="89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4191120"/>
            <a:ext cx="0" cy="36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59200" y="4202280"/>
            <a:ext cx="0" cy="36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59240" y="420516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36960" y="41940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22960" y="419724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9920" y="2286000"/>
            <a:ext cx="5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17640" y="23562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36880" y="37371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17840" y="420372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57360" y="41814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11320" y="3657600"/>
            <a:ext cx="5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079880" y="4499280"/>
            <a:ext cx="485640" cy="792000"/>
            <a:chOff x="4079880" y="4499280"/>
            <a:chExt cx="485640" cy="792000"/>
          </a:xfrm>
        </p:grpSpPr>
        <p:sp>
          <p:nvSpPr>
            <p:cNvPr id="634" name=""/>
            <p:cNvSpPr/>
            <p:nvPr/>
          </p:nvSpPr>
          <p:spPr>
            <a:xfrm>
              <a:off x="4098960" y="492444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41760" y="4923000"/>
              <a:ext cx="0" cy="36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9880" y="4499280"/>
              <a:ext cx="4856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483880" y="205740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36160" y="365760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6880" y="54864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3800" y="324648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w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2200" y="160020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w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3920" y="2438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lice into pa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3960" y="25909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nd lambda to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3960" y="46483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nd lambda to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9400" y="9144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ements/nod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866880" y="5486400"/>
            <a:ext cx="5457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33cc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rial Black"/>
              </a:rPr>
              <a:t>The Tree is Balanc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33cc"/>
                  </a:gs>
                  <a:gs pos="100000">
                    <a:srgbClr val="ff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-0.04392 0.02384 C -0.05451 0.02801 -0.06423 0.03889 -0.07187 0.05324 C -0.08055 0.06968 -0.08576 0.08403 -0.08472 0.09907 L -0.08507 0.16181 E">
                                      <p:cBhvr>
                                        <p:cTn id="50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24 0.1618 L 0.025 0.32152 E">
                                      <p:cBhvr>
                                        <p:cTn id="530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07622 0.11342 E">
                                      <p:cBhvr>
                                        <p:cTn id="532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03211 0.10232 E">
                                      <p:cBhvr>
                                        <p:cTn id="555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32152 L -0.02431 0.48263 E">
                                      <p:cBhvr>
                                        <p:cTn id="557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-0.0224 -0.11296 E">
                                      <p:cBhvr>
                                        <p:cTn id="5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-0.11111 E">
                                      <p:cBhvr>
                                        <p:cTn id="59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11111 L -0.06893 -0.19884 E">
                                      <p:cBhvr>
                                        <p:cTn id="625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1.38889E-006 -0.1544 E">
                                      <p:cBhvr>
                                        <p:cTn id="648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Motiv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 self-balancing tre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3-4 tree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-black tree (binary tree equivalent of 2-3-4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tree (generalized 2-3-4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icult and complex.   Where’s the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f0f"/>
                </a:solidFill>
                <a:latin typeface="Arial"/>
              </a:rPr>
              <a:t>What’s the proper abstr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decouple algorithms from data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280" y="223920"/>
            <a:ext cx="8534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s, final TreeN host, final Object ke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(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e 0: {  return host.spliceAt(0, new TreeN((Integer) key)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.execute(new ITreeNAlg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s_help, final TreeN h, final Object cm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(s_hel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e 0: { return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((ILambda)cmd).apply(new TreeN((Integer)key)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;}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int[] x={0};  //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ck to get around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(; x[0] &lt; s_help; x[0]++) {  //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ind insertion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d = h.getDat(x[0]).in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 &gt;= ((Integer)key).intValue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 == ((Integer)key).intValue()) return h; // no duplicate keys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break;  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getChild(x[0]).execute(this,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new ILambd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ublic Object apply(Object child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return h.spliceAt(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x[0]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, (TreeN) child); } 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h.execute(splitUpAndSplice,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m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 } } } }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new ILambd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ublic Object apply(Object child){ return host; }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host;  } 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371600"/>
            <a:ext cx="3809880" cy="891000"/>
          </a:xfrm>
          <a:prstGeom prst="wedgeRoundRectCallout">
            <a:avLst>
              <a:gd name="adj1" fmla="val -54865"/>
              <a:gd name="adj2" fmla="val -818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ce new tree in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33920" y="228600"/>
            <a:ext cx="5105160" cy="891000"/>
          </a:xfrm>
          <a:prstGeom prst="wedgeRoundRectCallout">
            <a:avLst>
              <a:gd name="adj1" fmla="val -50680"/>
              <a:gd name="adj2" fmla="val 72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n-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create a recursive 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912960"/>
            <a:ext cx="5105520" cy="496440"/>
          </a:xfrm>
          <a:prstGeom prst="wedgeRoundRectCallout">
            <a:avLst>
              <a:gd name="adj1" fmla="val -31097"/>
              <a:gd name="adj2" fmla="val 204925"/>
              <a:gd name="adj3" fmla="val 16667"/>
            </a:avLst>
          </a:prstGeom>
          <a:solidFill>
            <a:srgbClr val="ff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ce into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14800" y="2930400"/>
            <a:ext cx="4114800" cy="496440"/>
          </a:xfrm>
          <a:prstGeom prst="wedgeRoundRectCallout">
            <a:avLst>
              <a:gd name="adj1" fmla="val -71134"/>
              <a:gd name="adj2" fmla="val 2506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[0] has the splic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8600" y="1599840"/>
            <a:ext cx="1523520" cy="3963960"/>
            <a:chOff x="228600" y="1599840"/>
            <a:chExt cx="1523520" cy="3963960"/>
          </a:xfrm>
        </p:grpSpPr>
        <p:sp>
          <p:nvSpPr>
            <p:cNvPr id="653" name=""/>
            <p:cNvSpPr/>
            <p:nvPr/>
          </p:nvSpPr>
          <p:spPr>
            <a:xfrm rot="10800000">
              <a:off x="1218960" y="2819160"/>
              <a:ext cx="533160" cy="152424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-1307520" y="3136320"/>
              <a:ext cx="3963960" cy="891000"/>
            </a:xfrm>
            <a:prstGeom prst="wedgeRoundRectCallout">
              <a:avLst>
                <a:gd name="adj1" fmla="val 23300"/>
                <a:gd name="adj2" fmla="val 16152"/>
                <a:gd name="adj3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Find the insertion/splice 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343400" y="3122640"/>
            <a:ext cx="4572000" cy="891000"/>
          </a:xfrm>
          <a:prstGeom prst="wedgeRoundRectCallout">
            <a:avLst>
              <a:gd name="adj1" fmla="val -23546"/>
              <a:gd name="adj2" fmla="val 103592"/>
              <a:gd name="adj3" fmla="val 16667"/>
            </a:avLst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cur into the child, passing on the splicing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343400" y="4191120"/>
            <a:ext cx="4572000" cy="496440"/>
          </a:xfrm>
          <a:prstGeom prst="wedgeRoundRectCallout">
            <a:avLst>
              <a:gd name="adj1" fmla="val -21532"/>
              <a:gd name="adj2" fmla="val 170578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un the given splicing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33920" y="4800600"/>
            <a:ext cx="5105160" cy="496440"/>
          </a:xfrm>
          <a:prstGeom prst="wedgeRoundRectCallout">
            <a:avLst>
              <a:gd name="adj1" fmla="val -23018"/>
              <a:gd name="adj2" fmla="val 150504"/>
              <a:gd name="adj3" fmla="val 16667"/>
            </a:avLst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ot has no parent to splice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5638680"/>
            <a:ext cx="3733920" cy="496440"/>
          </a:xfrm>
          <a:prstGeom prst="wedgeRoundRectCallout">
            <a:avLst>
              <a:gd name="adj1" fmla="val -18208"/>
              <a:gd name="adj2" fmla="val -123402"/>
              <a:gd name="adj3" fmla="val 16667"/>
            </a:avLst>
          </a:prstGeom>
          <a:solidFill>
            <a:srgbClr val="ff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beauty of closur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486400" y="5562720"/>
            <a:ext cx="3371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(log n) insertion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Heurist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ion only well-defined at 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ight exist anywhere in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can only shorten at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080" y="4419720"/>
            <a:ext cx="715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ust transpor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root to the leave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leaves to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out affecting the heigh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5360" y="32004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ush “candidate” data down from the root to the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6080" y="373392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ubble “excess” data back to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2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candidat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 down at candidate and collapse with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root is a 2-node, then tree will sho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o delete will appear as 2-node below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Split-and-Apply to transport excess data up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057400" y="533412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Rotation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429000" y="129528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819520" y="12952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9704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1312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6852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05200" y="4851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9104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27360" y="4844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5148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0680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5464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8456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57600" y="3657600"/>
            <a:ext cx="7632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6200" y="2438280"/>
            <a:ext cx="11430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43400" y="24382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24382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05320" y="2438280"/>
            <a:ext cx="759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666520" y="2438280"/>
            <a:ext cx="3049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980720" y="2438280"/>
            <a:ext cx="68580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00600" y="3657600"/>
            <a:ext cx="30492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657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429000" y="365760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828440" y="3657600"/>
            <a:ext cx="2286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438280" y="2438280"/>
            <a:ext cx="60984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Dynam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93" name=""/>
          <p:cNvSpPr/>
          <p:nvPr/>
        </p:nvSpPr>
        <p:spPr>
          <a:xfrm>
            <a:off x="3054240" y="19846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638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926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498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83000" y="4413600"/>
            <a:ext cx="333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6548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4476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7988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8304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14600" y="3657600"/>
            <a:ext cx="1522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05320" y="243828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3080" y="11430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“3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1280" y="472428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57600" y="36576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86200" y="472428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3440" y="9144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ements/nod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74760" y="1828800"/>
            <a:ext cx="278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-down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and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94760" y="54100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let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5640" y="23623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-up and sp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990720" y="5486400"/>
            <a:ext cx="5457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33cc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rial Black"/>
              </a:rPr>
              <a:t>The Tree is Balanc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33cc"/>
                  </a:gs>
                  <a:gs pos="100000">
                    <a:srgbClr val="ff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04393 -0.17709 E">
                                      <p:cBhvr>
                                        <p:cTn id="859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04393 -0.17709 E">
                                      <p:cBhvr>
                                        <p:cTn id="861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05607 -0.17709 E">
                                      <p:cBhvr>
                                        <p:cTn id="863" dur="20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3.05556E-006 -0.17708 E">
                                      <p:cBhvr>
                                        <p:cTn id="877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33333E-006 L -3.61111E-006 -0.17708 E">
                                      <p:cBhvr>
                                        <p:cTn id="879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3.05556E-006 -0.17708 E">
                                      <p:cBhvr>
                                        <p:cTn id="881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-0.17708 E">
                                      <p:cBhvr>
                                        <p:cTn id="885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2.77778E-007 -0.17708 E">
                                      <p:cBhvr>
                                        <p:cTn id="887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2.77778E-007 -0.17662 E">
                                      <p:cBhvr>
                                        <p:cTn id="889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-1.94444E-006 -0.17662 E">
                                      <p:cBhvr>
                                        <p:cTn id="89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3.05556E-006 -0.178 E">
                                      <p:cBhvr>
                                        <p:cTn id="893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-1.38889E-006 -0.1787 E">
                                      <p:cBhvr>
                                        <p:cTn id="895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1.66667E-006 -0.178 E">
                                      <p:cBhvr>
                                        <p:cTn id="897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1112 L -0.00104 -0.17963 E">
                                      <p:cBhvr>
                                        <p:cTn id="899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81481E-006 L 4.72222E-006 -0.178 E">
                                      <p:cBhvr>
                                        <p:cTn id="901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1.11111E-006 -0.178 E">
                                      <p:cBhvr>
                                        <p:cTn id="903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2.77778E-007 -0.17662 E">
                                      <p:cBhvr>
                                        <p:cTn id="905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1.38889E-006 -0.17662 E">
                                      <p:cBhvr>
                                        <p:cTn id="90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93 -0.17709 L -0.02726 0.00069 E">
                                      <p:cBhvr>
                                        <p:cTn id="934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93 -0.17709 L -0.09393 -0.17709 E">
                                      <p:cBhvr>
                                        <p:cTn id="938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69 L -0.04393 0.15625 E">
                                      <p:cBhvr>
                                        <p:cTn id="948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17708 L -0.04774 -0.17708 E">
                                      <p:cBhvr>
                                        <p:cTn id="954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-2.77778E-007 -0.13403 E">
                                      <p:cBhvr>
                                        <p:cTn id="997" dur="2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 abstraction lead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&amp;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Visitors open up new pos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balancing trees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-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mbda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-of-correctness &amp; 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20760"/>
            <a:ext cx="74674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A 2-3-4 Tree is…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1676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629400" y="2895480"/>
            <a:ext cx="872640" cy="685800"/>
            <a:chOff x="6629400" y="2895480"/>
            <a:chExt cx="872640" cy="685800"/>
          </a:xfrm>
        </p:grpSpPr>
        <p:sp>
          <p:nvSpPr>
            <p:cNvPr id="91" name=""/>
            <p:cNvSpPr/>
            <p:nvPr/>
          </p:nvSpPr>
          <p:spPr>
            <a:xfrm flipH="1">
              <a:off x="6629400" y="3192120"/>
              <a:ext cx="22824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3800" y="3200040"/>
              <a:ext cx="22824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8960" y="2895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00440" y="4038480"/>
            <a:ext cx="1389240" cy="685800"/>
            <a:chOff x="6400440" y="4038480"/>
            <a:chExt cx="1389240" cy="685800"/>
          </a:xfrm>
        </p:grpSpPr>
        <p:sp>
          <p:nvSpPr>
            <p:cNvPr id="95" name=""/>
            <p:cNvSpPr/>
            <p:nvPr/>
          </p:nvSpPr>
          <p:spPr>
            <a:xfrm flipH="1">
              <a:off x="6400440" y="433512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61080" y="434304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70720" y="4038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11800" y="42670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6600" y="4038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62720" y="5410080"/>
            <a:ext cx="1915560" cy="685800"/>
            <a:chOff x="5562720" y="5410080"/>
            <a:chExt cx="1915560" cy="685800"/>
          </a:xfrm>
        </p:grpSpPr>
        <p:sp>
          <p:nvSpPr>
            <p:cNvPr id="101" name=""/>
            <p:cNvSpPr/>
            <p:nvPr/>
          </p:nvSpPr>
          <p:spPr>
            <a:xfrm flipH="1">
              <a:off x="5562720" y="5707080"/>
              <a:ext cx="2282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50040" y="5688000"/>
              <a:ext cx="2282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32280" y="5410080"/>
              <a:ext cx="5331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3720" y="5638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160" y="5410080"/>
              <a:ext cx="5331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25960" y="5638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3520" y="5410080"/>
              <a:ext cx="56808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3880" y="1371600"/>
            <a:ext cx="14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4240" y="2590920"/>
            <a:ext cx="53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f"/>
                </a:solidFill>
                <a:latin typeface="Times New Roman"/>
              </a:rPr>
              <a:t>Non-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in 3 possibl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5200" y="3219480"/>
            <a:ext cx="53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data element +  2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5200" y="485136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3 data elements + 4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2840" y="4013280"/>
            <a:ext cx="54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2 data elements +  3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5920" y="198108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no data element +  no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17880"/>
            <a:ext cx="8610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Variant </a:t>
            </a:r>
            <a:r>
              <a:rPr b="1" i="1" lang="en-US" sz="4400" spc="-1" strike="noStrike">
                <a:solidFill>
                  <a:srgbClr val="0033cc"/>
                </a:solidFill>
                <a:latin typeface="Arial Black"/>
              </a:rPr>
              <a:t>vs</a:t>
            </a: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. Invariant Oper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0f0"/>
                </a:solidFill>
                <a:latin typeface="Arial"/>
              </a:rPr>
              <a:t>Self-balancing insertion is </a:t>
            </a:r>
            <a:r>
              <a:rPr b="1" lang="en-US" sz="3200" spc="-1" strike="noStrike" u="sng">
                <a:solidFill>
                  <a:srgbClr val="0b00f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b00f0"/>
                </a:solidFill>
                <a:latin typeface="Arial"/>
              </a:rPr>
              <a:t> an intrinsic (invariant) operation of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invariant ope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ors &amp; Constru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structive and Destructive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tru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lice a tree in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tru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lit a tree into a 2-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80720" y="2590920"/>
            <a:ext cx="873720" cy="685800"/>
            <a:chOff x="1980720" y="2590920"/>
            <a:chExt cx="873720" cy="685800"/>
          </a:xfrm>
        </p:grpSpPr>
        <p:sp>
          <p:nvSpPr>
            <p:cNvPr id="117" name=""/>
            <p:cNvSpPr/>
            <p:nvPr/>
          </p:nvSpPr>
          <p:spPr>
            <a:xfrm flipH="1">
              <a:off x="1980720" y="28875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2584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51000" y="2590920"/>
              <a:ext cx="5335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Splittin’ and Splicin’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34840" y="2590920"/>
            <a:ext cx="1389240" cy="685800"/>
            <a:chOff x="1734840" y="2590920"/>
            <a:chExt cx="1389240" cy="685800"/>
          </a:xfrm>
        </p:grpSpPr>
        <p:sp>
          <p:nvSpPr>
            <p:cNvPr id="122" name=""/>
            <p:cNvSpPr/>
            <p:nvPr/>
          </p:nvSpPr>
          <p:spPr>
            <a:xfrm flipH="1">
              <a:off x="1734840" y="28875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9548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5120" y="259092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4620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1000" y="259092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95280" y="2514600"/>
            <a:ext cx="2286000" cy="914400"/>
            <a:chOff x="1295280" y="2514600"/>
            <a:chExt cx="2286000" cy="914400"/>
          </a:xfrm>
        </p:grpSpPr>
        <p:sp>
          <p:nvSpPr>
            <p:cNvPr id="128" name=""/>
            <p:cNvSpPr/>
            <p:nvPr/>
          </p:nvSpPr>
          <p:spPr>
            <a:xfrm>
              <a:off x="1295280" y="2514600"/>
              <a:ext cx="2286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7200" y="2590920"/>
              <a:ext cx="1916640" cy="685800"/>
              <a:chOff x="1447200" y="2590920"/>
              <a:chExt cx="1916640" cy="68580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1447200" y="2887920"/>
                <a:ext cx="22860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35240" y="2868840"/>
                <a:ext cx="22860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17480" y="2590920"/>
                <a:ext cx="53352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58920" y="2819520"/>
                <a:ext cx="0" cy="45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3360" y="2590920"/>
                <a:ext cx="53352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11160" y="2819520"/>
                <a:ext cx="0" cy="45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28720" y="2590920"/>
                <a:ext cx="56844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980720" y="5562720"/>
            <a:ext cx="873720" cy="685800"/>
            <a:chOff x="1980720" y="5562720"/>
            <a:chExt cx="873720" cy="685800"/>
          </a:xfrm>
        </p:grpSpPr>
        <p:sp>
          <p:nvSpPr>
            <p:cNvPr id="138" name=""/>
            <p:cNvSpPr/>
            <p:nvPr/>
          </p:nvSpPr>
          <p:spPr>
            <a:xfrm flipH="1">
              <a:off x="1980720" y="58593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25840" y="58672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51000" y="5562720"/>
              <a:ext cx="5335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866920" y="2590920"/>
            <a:ext cx="1916640" cy="685800"/>
            <a:chOff x="5866920" y="2590920"/>
            <a:chExt cx="1916640" cy="685800"/>
          </a:xfrm>
        </p:grpSpPr>
        <p:sp>
          <p:nvSpPr>
            <p:cNvPr id="142" name=""/>
            <p:cNvSpPr/>
            <p:nvPr/>
          </p:nvSpPr>
          <p:spPr>
            <a:xfrm flipH="1">
              <a:off x="5866920" y="2887920"/>
              <a:ext cx="2286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4960" y="2868840"/>
              <a:ext cx="2286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7200" y="2590920"/>
              <a:ext cx="533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7864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2590920"/>
              <a:ext cx="533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3088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48440" y="2590920"/>
              <a:ext cx="56844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52680" y="5029200"/>
            <a:ext cx="24386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791320" y="2895480"/>
            <a:ext cx="2052000" cy="922320"/>
            <a:chOff x="5791320" y="2895480"/>
            <a:chExt cx="2052000" cy="922320"/>
          </a:xfrm>
        </p:grpSpPr>
        <p:sp>
          <p:nvSpPr>
            <p:cNvPr id="151" name=""/>
            <p:cNvSpPr/>
            <p:nvPr/>
          </p:nvSpPr>
          <p:spPr>
            <a:xfrm flipH="1">
              <a:off x="637668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21440" y="290340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791320" y="3122640"/>
              <a:ext cx="872640" cy="685800"/>
              <a:chOff x="5791320" y="3122640"/>
              <a:chExt cx="872640" cy="68580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5791320" y="341928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35720" y="342720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0880" y="3122640"/>
                <a:ext cx="533160" cy="38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970680" y="3132000"/>
              <a:ext cx="872640" cy="685800"/>
              <a:chOff x="6970680" y="3132000"/>
              <a:chExt cx="872640" cy="68580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6970680" y="342864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15080" y="343656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40240" y="3132000"/>
                <a:ext cx="533160" cy="38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546960" y="2590920"/>
            <a:ext cx="533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7832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9810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4191120"/>
            <a:ext cx="6933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rinsic operations on th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ree STRUCTURE, not the data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Structural Oper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219320"/>
            <a:ext cx="7543080" cy="5180400"/>
            <a:chOff x="533520" y="1219320"/>
            <a:chExt cx="7543080" cy="5180400"/>
          </a:xfrm>
        </p:grpSpPr>
        <p:grpSp>
          <p:nvGrpSpPr>
            <p:cNvPr id="167" name=""/>
            <p:cNvGrpSpPr/>
            <p:nvPr/>
          </p:nvGrpSpPr>
          <p:grpSpPr>
            <a:xfrm>
              <a:off x="533520" y="1219320"/>
              <a:ext cx="2162520" cy="1985040"/>
              <a:chOff x="533520" y="1219320"/>
              <a:chExt cx="2162520" cy="1985040"/>
            </a:xfrm>
          </p:grpSpPr>
          <p:sp>
            <p:nvSpPr>
              <p:cNvPr id="168" name=""/>
              <p:cNvSpPr/>
              <p:nvPr/>
            </p:nvSpPr>
            <p:spPr>
              <a:xfrm>
                <a:off x="1247400" y="1219320"/>
                <a:ext cx="713880" cy="29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33520" y="1516680"/>
                <a:ext cx="2162520" cy="1687680"/>
                <a:chOff x="533520" y="1516680"/>
                <a:chExt cx="2162520" cy="1687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42200" y="2062440"/>
                  <a:ext cx="381600" cy="2977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241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8057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6060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1873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0600" y="1814400"/>
                  <a:ext cx="1908360" cy="24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614600" y="1516680"/>
                  <a:ext cx="0" cy="29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678320" y="2360520"/>
                  <a:ext cx="254160" cy="843840"/>
                  <a:chOff x="1678320" y="2360520"/>
                  <a:chExt cx="254160" cy="8438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83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8054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7832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915120" y="2360520"/>
                  <a:ext cx="254160" cy="843840"/>
                  <a:chOff x="915120" y="2360520"/>
                  <a:chExt cx="254160" cy="8438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9151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0422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915120" y="2906640"/>
                    <a:ext cx="254160" cy="297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33520" y="2360520"/>
                  <a:ext cx="254160" cy="843840"/>
                  <a:chOff x="533520" y="2360520"/>
                  <a:chExt cx="254160" cy="8438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335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606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3352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060280" y="2360520"/>
                  <a:ext cx="254160" cy="843840"/>
                  <a:chOff x="2060280" y="2360520"/>
                  <a:chExt cx="254160" cy="84384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206028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18736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6028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2441880" y="2360520"/>
                  <a:ext cx="254160" cy="843840"/>
                  <a:chOff x="2441880" y="2360520"/>
                  <a:chExt cx="254160" cy="843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244188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56896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44188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296720" y="2360520"/>
                  <a:ext cx="254160" cy="843840"/>
                  <a:chOff x="1296720" y="2360520"/>
                  <a:chExt cx="254160" cy="843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12967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4238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296720" y="2906640"/>
                    <a:ext cx="254160" cy="29772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" name=""/>
            <p:cNvGrpSpPr/>
            <p:nvPr/>
          </p:nvGrpSpPr>
          <p:grpSpPr>
            <a:xfrm>
              <a:off x="3195720" y="1219320"/>
              <a:ext cx="2238840" cy="2893680"/>
              <a:chOff x="3195720" y="1219320"/>
              <a:chExt cx="2238840" cy="2893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195720" y="1219320"/>
                <a:ext cx="1885320" cy="31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tUpAt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377880" y="1477800"/>
                <a:ext cx="2056680" cy="2635200"/>
                <a:chOff x="3377880" y="1477800"/>
                <a:chExt cx="2056680" cy="26352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862080" y="2046240"/>
                  <a:ext cx="362160" cy="30996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22424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87480" y="2925000"/>
                  <a:ext cx="36216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9884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5000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498840" y="2665800"/>
                  <a:ext cx="3632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679920" y="2356560"/>
                  <a:ext cx="18216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4466520" y="3234600"/>
                  <a:ext cx="241920" cy="878400"/>
                  <a:chOff x="4466520" y="3234600"/>
                  <a:chExt cx="241920" cy="878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446652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58748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466520" y="3803040"/>
                    <a:ext cx="24192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377880" y="3234600"/>
                  <a:ext cx="241920" cy="878400"/>
                  <a:chOff x="3377880" y="3234600"/>
                  <a:chExt cx="241920" cy="8784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337788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988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377880" y="3803040"/>
                    <a:ext cx="24192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4830120" y="3234600"/>
                  <a:ext cx="241200" cy="878400"/>
                  <a:chOff x="4830120" y="3234600"/>
                  <a:chExt cx="241200" cy="878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830120" y="3544560"/>
                    <a:ext cx="24120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95072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830120" y="3803040"/>
                    <a:ext cx="24120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5192280" y="3234600"/>
                  <a:ext cx="242280" cy="878400"/>
                  <a:chOff x="5192280" y="3234600"/>
                  <a:chExt cx="242280" cy="8784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5192280" y="3544560"/>
                    <a:ext cx="24228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3132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192280" y="3803040"/>
                    <a:ext cx="24228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4224240" y="2665800"/>
                  <a:ext cx="10886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224240" y="2356560"/>
                  <a:ext cx="54432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862080" y="1787760"/>
                  <a:ext cx="36216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43160" y="147780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3741120" y="3234600"/>
                  <a:ext cx="241200" cy="878400"/>
                  <a:chOff x="3741120" y="3234600"/>
                  <a:chExt cx="241200" cy="878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741120" y="3544560"/>
                    <a:ext cx="24120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86172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741120" y="3803040"/>
                    <a:ext cx="241200" cy="30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4103280" y="3234600"/>
                  <a:ext cx="241920" cy="878400"/>
                  <a:chOff x="4103280" y="3234600"/>
                  <a:chExt cx="241920" cy="8784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410328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2242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103280" y="3803040"/>
                    <a:ext cx="241920" cy="30996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" name=""/>
            <p:cNvGrpSpPr/>
            <p:nvPr/>
          </p:nvGrpSpPr>
          <p:grpSpPr>
            <a:xfrm>
              <a:off x="896040" y="4289040"/>
              <a:ext cx="1301040" cy="2061360"/>
              <a:chOff x="896040" y="4289040"/>
              <a:chExt cx="1301040" cy="2061360"/>
            </a:xfrm>
          </p:grpSpPr>
          <p:sp>
            <p:nvSpPr>
              <p:cNvPr id="240" name=""/>
              <p:cNvSpPr/>
              <p:nvPr/>
            </p:nvSpPr>
            <p:spPr>
              <a:xfrm>
                <a:off x="1310040" y="4289040"/>
                <a:ext cx="473040" cy="35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896040" y="4593960"/>
                <a:ext cx="1301040" cy="1756440"/>
                <a:chOff x="896040" y="4593960"/>
                <a:chExt cx="1301040" cy="175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36908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β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72404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1412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014120" y="4903920"/>
                  <a:ext cx="10645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546200" y="459396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1250640" y="5472000"/>
                  <a:ext cx="236520" cy="878400"/>
                  <a:chOff x="1250640" y="5472000"/>
                  <a:chExt cx="236520" cy="878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25064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36872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5064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896040" y="5472000"/>
                  <a:ext cx="236520" cy="878400"/>
                  <a:chOff x="896040" y="5472000"/>
                  <a:chExt cx="236520" cy="8784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89604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01412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9604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1605600" y="5472000"/>
                  <a:ext cx="236520" cy="878400"/>
                  <a:chOff x="1605600" y="5472000"/>
                  <a:chExt cx="236520" cy="8784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160560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172368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0560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1960560" y="5472000"/>
                  <a:ext cx="236520" cy="878400"/>
                  <a:chOff x="1960560" y="5472000"/>
                  <a:chExt cx="236520" cy="8784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196056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7864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96056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" name=""/>
            <p:cNvGrpSpPr/>
            <p:nvPr/>
          </p:nvGrpSpPr>
          <p:grpSpPr>
            <a:xfrm>
              <a:off x="4196520" y="4363200"/>
              <a:ext cx="3163680" cy="2036520"/>
              <a:chOff x="4196520" y="4363200"/>
              <a:chExt cx="3163680" cy="2036520"/>
            </a:xfrm>
          </p:grpSpPr>
          <p:sp>
            <p:nvSpPr>
              <p:cNvPr id="264" name=""/>
              <p:cNvSpPr/>
              <p:nvPr/>
            </p:nvSpPr>
            <p:spPr>
              <a:xfrm>
                <a:off x="4637520" y="4363200"/>
                <a:ext cx="221868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ceAt(1, t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196520" y="4644000"/>
                <a:ext cx="3163680" cy="1755720"/>
                <a:chOff x="4196520" y="4644000"/>
                <a:chExt cx="3163680" cy="1755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778360" y="5212080"/>
                  <a:ext cx="365040" cy="3096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4340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0844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1820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7348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318200" y="4953600"/>
                  <a:ext cx="29203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778360" y="4644000"/>
                  <a:ext cx="0" cy="30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6386760" y="5522040"/>
                  <a:ext cx="243360" cy="877680"/>
                  <a:chOff x="6386760" y="5522040"/>
                  <a:chExt cx="243360" cy="8776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638676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50844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38676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4196520" y="5522040"/>
                  <a:ext cx="243360" cy="877680"/>
                  <a:chOff x="4196520" y="5522040"/>
                  <a:chExt cx="243360" cy="8776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19652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31820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19652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751800" y="5522040"/>
                  <a:ext cx="243360" cy="877680"/>
                  <a:chOff x="6751800" y="5522040"/>
                  <a:chExt cx="243360" cy="87768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675180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87348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75180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116840" y="5522040"/>
                  <a:ext cx="243360" cy="877680"/>
                  <a:chOff x="7116840" y="5522040"/>
                  <a:chExt cx="243360" cy="877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11684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23852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711684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6021720" y="5522040"/>
                  <a:ext cx="243360" cy="877680"/>
                  <a:chOff x="6021720" y="5522040"/>
                  <a:chExt cx="243360" cy="8776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602172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14340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021720" y="6090120"/>
                    <a:ext cx="243360" cy="30960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504828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β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332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8324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4926600" y="5522040"/>
                  <a:ext cx="243360" cy="877680"/>
                  <a:chOff x="4926600" y="5522040"/>
                  <a:chExt cx="243360" cy="8776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92660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04828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92660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4561560" y="5522040"/>
                  <a:ext cx="243360" cy="877680"/>
                  <a:chOff x="4561560" y="5522040"/>
                  <a:chExt cx="243360" cy="8776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456156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68324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56156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291640" y="5522040"/>
                  <a:ext cx="243360" cy="877680"/>
                  <a:chOff x="5291640" y="5522040"/>
                  <a:chExt cx="243360" cy="8776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529164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41332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29164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5656680" y="5522040"/>
                  <a:ext cx="243360" cy="877680"/>
                  <a:chOff x="5656680" y="5522040"/>
                  <a:chExt cx="243360" cy="87768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565668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77836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65668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747400" y="1219320"/>
              <a:ext cx="2329200" cy="2944800"/>
              <a:chOff x="5747400" y="1219320"/>
              <a:chExt cx="2329200" cy="2944800"/>
            </a:xfrm>
          </p:grpSpPr>
          <p:sp>
            <p:nvSpPr>
              <p:cNvPr id="313" name=""/>
              <p:cNvSpPr/>
              <p:nvPr/>
            </p:nvSpPr>
            <p:spPr>
              <a:xfrm>
                <a:off x="5747400" y="1219320"/>
                <a:ext cx="2329200" cy="32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tDownAt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100920" y="1529640"/>
                <a:ext cx="1693080" cy="2634480"/>
                <a:chOff x="6100920" y="1529640"/>
                <a:chExt cx="1693080" cy="2634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402960" y="2976480"/>
                  <a:ext cx="362880" cy="30924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84760" y="2097720"/>
                  <a:ext cx="36288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948000" y="2097720"/>
                  <a:ext cx="36216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21520" y="2097720"/>
                  <a:ext cx="36288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21520" y="1839960"/>
                  <a:ext cx="1451520" cy="25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8476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18884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31016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8884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0092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2152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0092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55208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7340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55208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27040" y="2717640"/>
                  <a:ext cx="2408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4800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27040" y="2976480"/>
                  <a:ext cx="2408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02960" y="2717640"/>
                  <a:ext cx="36288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48000" y="152964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281640" y="3596040"/>
                  <a:ext cx="2419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402960" y="328608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281640" y="3854160"/>
                  <a:ext cx="241920" cy="30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644880" y="3596040"/>
                  <a:ext cx="2419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765840" y="328608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644880" y="3854160"/>
                  <a:ext cx="241920" cy="30996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08360" y="2097720"/>
                  <a:ext cx="36288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on/De-structio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3520" y="1219320"/>
            <a:ext cx="7238160" cy="4950000"/>
            <a:chOff x="533520" y="1219320"/>
            <a:chExt cx="7238160" cy="4950000"/>
          </a:xfrm>
        </p:grpSpPr>
        <p:grpSp>
          <p:nvGrpSpPr>
            <p:cNvPr id="344" name=""/>
            <p:cNvGrpSpPr/>
            <p:nvPr/>
          </p:nvGrpSpPr>
          <p:grpSpPr>
            <a:xfrm>
              <a:off x="533520" y="1312200"/>
              <a:ext cx="821520" cy="2046600"/>
              <a:chOff x="533520" y="1312200"/>
              <a:chExt cx="821520" cy="2046600"/>
            </a:xfrm>
          </p:grpSpPr>
          <p:sp>
            <p:nvSpPr>
              <p:cNvPr id="345" name=""/>
              <p:cNvSpPr/>
              <p:nvPr/>
            </p:nvSpPr>
            <p:spPr>
              <a:xfrm>
                <a:off x="533520" y="1312200"/>
                <a:ext cx="82152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587880" y="1675440"/>
                <a:ext cx="729360" cy="1683360"/>
                <a:chOff x="587880" y="1675440"/>
                <a:chExt cx="729360" cy="168336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26480" y="1675440"/>
                  <a:ext cx="453960" cy="648360"/>
                  <a:chOff x="726480" y="1675440"/>
                  <a:chExt cx="453960" cy="6483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726480" y="206892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956160" y="1675440"/>
                    <a:ext cx="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587880" y="2332080"/>
                  <a:ext cx="729360" cy="1026720"/>
                  <a:chOff x="587880" y="2332080"/>
                  <a:chExt cx="729360" cy="1026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733680" y="2332080"/>
                    <a:ext cx="437760" cy="36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87880" y="2694960"/>
                    <a:ext cx="291600" cy="663840"/>
                    <a:chOff x="587880" y="2694960"/>
                    <a:chExt cx="291600" cy="6638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587880" y="305604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733680" y="2694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1026000" y="2694960"/>
                    <a:ext cx="291240" cy="663840"/>
                    <a:chOff x="1026000" y="2694960"/>
                    <a:chExt cx="291240" cy="66384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026000" y="305604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1171440" y="2694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8" name=""/>
            <p:cNvGrpSpPr/>
            <p:nvPr/>
          </p:nvGrpSpPr>
          <p:grpSpPr>
            <a:xfrm>
              <a:off x="796320" y="4188600"/>
              <a:ext cx="541800" cy="1057680"/>
              <a:chOff x="796320" y="4188600"/>
              <a:chExt cx="541800" cy="1057680"/>
            </a:xfrm>
          </p:grpSpPr>
          <p:sp>
            <p:nvSpPr>
              <p:cNvPr id="359" name=""/>
              <p:cNvSpPr/>
              <p:nvPr/>
            </p:nvSpPr>
            <p:spPr>
              <a:xfrm>
                <a:off x="796320" y="4188600"/>
                <a:ext cx="54180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925920" y="4559400"/>
                <a:ext cx="291240" cy="686880"/>
                <a:chOff x="925920" y="4559400"/>
                <a:chExt cx="291240" cy="686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67760" y="4559400"/>
                  <a:ext cx="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5920" y="4943160"/>
                  <a:ext cx="291240" cy="30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2724840" y="1219320"/>
              <a:ext cx="2169000" cy="2103480"/>
              <a:chOff x="2724840" y="1219320"/>
              <a:chExt cx="2169000" cy="2103480"/>
            </a:xfrm>
          </p:grpSpPr>
          <p:sp>
            <p:nvSpPr>
              <p:cNvPr id="364" name=""/>
              <p:cNvSpPr/>
              <p:nvPr/>
            </p:nvSpPr>
            <p:spPr>
              <a:xfrm>
                <a:off x="2724840" y="1219320"/>
                <a:ext cx="216900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.splitUpAt(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3431160" y="1638720"/>
                <a:ext cx="729000" cy="1684080"/>
                <a:chOff x="3431160" y="1638720"/>
                <a:chExt cx="729000" cy="168408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3569760" y="1638720"/>
                  <a:ext cx="453960" cy="648720"/>
                  <a:chOff x="3569760" y="1638720"/>
                  <a:chExt cx="453960" cy="6487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3569760" y="203256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799440" y="1638720"/>
                    <a:ext cx="0" cy="36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3431160" y="2295720"/>
                  <a:ext cx="729000" cy="1027080"/>
                  <a:chOff x="3431160" y="2295720"/>
                  <a:chExt cx="729000" cy="10270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3576960" y="2295720"/>
                    <a:ext cx="437400" cy="36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3431160" y="2658960"/>
                    <a:ext cx="291600" cy="663840"/>
                    <a:chOff x="3431160" y="2658960"/>
                    <a:chExt cx="291600" cy="663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3431160" y="302004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3576960" y="2658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3868920" y="2658960"/>
                    <a:ext cx="291240" cy="663840"/>
                    <a:chOff x="3868920" y="2658960"/>
                    <a:chExt cx="291240" cy="66384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3868920" y="302004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014360" y="2658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77" name=""/>
            <p:cNvGrpSpPr/>
            <p:nvPr/>
          </p:nvGrpSpPr>
          <p:grpSpPr>
            <a:xfrm>
              <a:off x="5091480" y="1219320"/>
              <a:ext cx="2680200" cy="1151280"/>
              <a:chOff x="5091480" y="1219320"/>
              <a:chExt cx="2680200" cy="1151280"/>
            </a:xfrm>
          </p:grpSpPr>
          <p:sp>
            <p:nvSpPr>
              <p:cNvPr id="378" name=""/>
              <p:cNvSpPr/>
              <p:nvPr/>
            </p:nvSpPr>
            <p:spPr>
              <a:xfrm>
                <a:off x="5091480" y="1219320"/>
                <a:ext cx="2680200" cy="39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.splitDownAt(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106680" y="1683000"/>
                <a:ext cx="291600" cy="687600"/>
                <a:chOff x="6106680" y="1683000"/>
                <a:chExt cx="291600" cy="6876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248520" y="1683000"/>
                  <a:ext cx="0" cy="37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106680" y="2067120"/>
                  <a:ext cx="291600" cy="303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3952080" y="4095720"/>
              <a:ext cx="2552400" cy="2073600"/>
              <a:chOff x="3952080" y="4095720"/>
              <a:chExt cx="2552400" cy="2073600"/>
            </a:xfrm>
          </p:grpSpPr>
          <p:sp>
            <p:nvSpPr>
              <p:cNvPr id="383" name=""/>
              <p:cNvSpPr/>
              <p:nvPr/>
            </p:nvSpPr>
            <p:spPr>
              <a:xfrm>
                <a:off x="3952080" y="4095720"/>
                <a:ext cx="255240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2.spliceAt(0, t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4752000" y="4485960"/>
                <a:ext cx="729000" cy="1683360"/>
                <a:chOff x="4752000" y="4485960"/>
                <a:chExt cx="729000" cy="1683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4890600" y="4485960"/>
                  <a:ext cx="453960" cy="648360"/>
                  <a:chOff x="4890600" y="4485960"/>
                  <a:chExt cx="453960" cy="6483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4890600" y="487944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5120280" y="4485960"/>
                    <a:ext cx="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752000" y="5142600"/>
                  <a:ext cx="729000" cy="1026720"/>
                  <a:chOff x="4752000" y="5142600"/>
                  <a:chExt cx="729000" cy="10267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897800" y="5142600"/>
                    <a:ext cx="437400" cy="36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4752000" y="5505480"/>
                    <a:ext cx="291600" cy="663840"/>
                    <a:chOff x="4752000" y="5505480"/>
                    <a:chExt cx="291600" cy="6638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4752000" y="586656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897800" y="550548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189760" y="5505480"/>
                    <a:ext cx="291240" cy="663840"/>
                    <a:chOff x="5189760" y="5505480"/>
                    <a:chExt cx="291240" cy="66384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5189760" y="586656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335200" y="550548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Visitor Design Patter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614160" y="4191120"/>
            <a:ext cx="707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varia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: Host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alls case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of the vis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152388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cute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1523880"/>
            <a:ext cx="16002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3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2285640"/>
            <a:ext cx="3549600" cy="1143360"/>
            <a:chOff x="990720" y="2285640"/>
            <a:chExt cx="3549600" cy="1143360"/>
          </a:xfrm>
        </p:grpSpPr>
        <p:sp>
          <p:nvSpPr>
            <p:cNvPr id="401" name=""/>
            <p:cNvSpPr/>
            <p:nvPr/>
          </p:nvSpPr>
          <p:spPr>
            <a:xfrm>
              <a:off x="9907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8636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524240" y="228564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2971800" y="228564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743560" y="2285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05520" y="3124080"/>
            <a:ext cx="3123720" cy="990720"/>
            <a:chOff x="5105520" y="3124080"/>
            <a:chExt cx="3123720" cy="990720"/>
          </a:xfrm>
        </p:grpSpPr>
        <p:sp>
          <p:nvSpPr>
            <p:cNvPr id="408" name=""/>
            <p:cNvSpPr/>
            <p:nvPr/>
          </p:nvSpPr>
          <p:spPr>
            <a:xfrm>
              <a:off x="510552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3396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5000" y="31240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7010280" y="3124080"/>
              <a:ext cx="609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19810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Non-Extensib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13" name=""/>
          <p:cNvSpPr/>
          <p:nvPr/>
        </p:nvSpPr>
        <p:spPr>
          <a:xfrm flipV="1" rot="19939800">
            <a:off x="3276720" y="2971080"/>
            <a:ext cx="2709720" cy="743040"/>
          </a:xfrm>
          <a:custGeom>
            <a:avLst/>
            <a:gdLst>
              <a:gd name="textAreaLeft" fmla="*/ 0 w 2709720"/>
              <a:gd name="textAreaRight" fmla="*/ 2710080 w 2709720"/>
              <a:gd name="textAreaTop" fmla="*/ 360 h 743040"/>
              <a:gd name="textAreaBottom" fmla="*/ 7437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45" stAng="10800000" swAng="5400000"/>
                <a:lnTo>
                  <a:pt x="17216" y="4515"/>
                </a:lnTo>
                <a:lnTo>
                  <a:pt x="17216" y="0"/>
                </a:lnTo>
                <a:lnTo>
                  <a:pt x="21600" y="6079"/>
                </a:lnTo>
                <a:lnTo>
                  <a:pt x="17216" y="12158"/>
                </a:lnTo>
                <a:lnTo>
                  <a:pt x="17216" y="7643"/>
                </a:lnTo>
                <a:lnTo>
                  <a:pt x="12427" y="7643"/>
                </a:lnTo>
                <a:arcTo wR="9299" hR="4517" stAng="16200000" swAng="-5400000"/>
                <a:lnTo>
                  <a:pt x="3128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5560" y="487692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 # of method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xed # of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Generalized Visitor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608760" y="4191120"/>
            <a:ext cx="782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varia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: Host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alls caseAt(i) of the vis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152388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cute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1752480"/>
            <a:ext cx="1752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At(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90720" y="2285640"/>
            <a:ext cx="3549600" cy="1143360"/>
            <a:chOff x="990720" y="2285640"/>
            <a:chExt cx="3549600" cy="1143360"/>
          </a:xfrm>
        </p:grpSpPr>
        <p:sp>
          <p:nvSpPr>
            <p:cNvPr id="420" name=""/>
            <p:cNvSpPr/>
            <p:nvPr/>
          </p:nvSpPr>
          <p:spPr>
            <a:xfrm>
              <a:off x="9907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8636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053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524240" y="228564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971800" y="228564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743560" y="2285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105520" y="3124080"/>
            <a:ext cx="3123720" cy="990720"/>
            <a:chOff x="5105520" y="3124080"/>
            <a:chExt cx="3123720" cy="990720"/>
          </a:xfrm>
        </p:grpSpPr>
        <p:sp>
          <p:nvSpPr>
            <p:cNvPr id="427" name=""/>
            <p:cNvSpPr/>
            <p:nvPr/>
          </p:nvSpPr>
          <p:spPr>
            <a:xfrm>
              <a:off x="510552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3396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715000" y="31240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7010280" y="3124080"/>
              <a:ext cx="609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 txBox="1"/>
          <p:nvPr/>
        </p:nvSpPr>
        <p:spPr>
          <a:xfrm>
            <a:off x="380880" y="5105520"/>
            <a:ext cx="767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bounded # of hosts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"/>
          <p:cNvSpPr/>
          <p:nvPr/>
        </p:nvSpPr>
        <p:spPr>
          <a:xfrm flipV="1" rot="19939800">
            <a:off x="3276720" y="2971080"/>
            <a:ext cx="2709720" cy="743040"/>
          </a:xfrm>
          <a:custGeom>
            <a:avLst/>
            <a:gdLst>
              <a:gd name="textAreaLeft" fmla="*/ 0 w 2709720"/>
              <a:gd name="textAreaRight" fmla="*/ 2710080 w 2709720"/>
              <a:gd name="textAreaTop" fmla="*/ 360 h 743040"/>
              <a:gd name="textAreaBottom" fmla="*/ 7437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45" stAng="10800000" swAng="5400000"/>
                <a:lnTo>
                  <a:pt x="17216" y="4515"/>
                </a:lnTo>
                <a:lnTo>
                  <a:pt x="17216" y="0"/>
                </a:lnTo>
                <a:lnTo>
                  <a:pt x="21600" y="6079"/>
                </a:lnTo>
                <a:lnTo>
                  <a:pt x="17216" y="12158"/>
                </a:lnTo>
                <a:lnTo>
                  <a:pt x="17216" y="7643"/>
                </a:lnTo>
                <a:lnTo>
                  <a:pt x="12427" y="7643"/>
                </a:lnTo>
                <a:arcTo wR="9299" hR="4517" stAng="16200000" swAng="-5400000"/>
                <a:lnTo>
                  <a:pt x="3128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e University</cp:lastModifiedBy>
  <dcterms:modified xsi:type="dcterms:W3CDTF">2004-04-14T17:20:15Z</dcterms:modified>
  <cp:revision>47</cp:revision>
  <dc:subject/>
  <dc:title>PowerPoint Presentation</dc:title>
</cp:coreProperties>
</file>